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clap.wav" ContentType="audio/x-wav"/>
  <Override PartName="/ppt/media/image2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D67B-7557-4F71-9E53-1CF2B0BD303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eblos are a group of different tribes who are all much alike, so much alike we group them toge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Indians, including the Tigua, are farmers. Most of their food comes from crops they plant and tend. Corn is the main crop they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aised cotton that they used to make cloth. They also raised gourds that could be dried out and used as contain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hunted deer, rabbits, antelope, bear and any other wild game they could find for m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and children would collect wild foods like berries when they were in sea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Jumano Village had its own leader and its own gover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 is a system for running a town or coun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hunters used bows and arr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ar, Pueblo men fired their bows or fought with spears and war clu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Locations of 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important religious ceremonies that had to be done at each stage of the farming seas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were dances and ceremonies while the crops were growing to bring rain and protect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gest dances and ceremonies came with the harvest of the cro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Spanish, came diseases and epidemics that killed many of the Pueblo Indi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were killed fighting off the Spanish inva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ins Jumano were pushed south and west out of their territory by the Apach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ueblo Tri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Ti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um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name, Pueblo, is Spanish and means "town"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arger Pueblos there are several individual Pueblo buildings built around a plaza or squa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ueblos had hundreds of people living in them. Some Pueblos were 4 or 5 stories hig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s are built several ways. One way is to use rocks to build a wall and cover the rocks with a plaster of mud on the outs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obe is a type of brick made from straw and mu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orno is a kind of oven used by Pueblo Indians to cook bread and tortillas 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d their roof like a po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ored and cooked their food in well-made pott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gua and other Pueblos are famous for their beautiful pott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ry land made it hard to fa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umano irrigated their crops from nearby str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traded with other groups for things they could not grow or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would travel long distances to tra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n cleared the fields and prepared the soi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men did most of the farming. They used sharp sticks to poke holes in the dirt and put seeds in each ho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ildren would walk the fields every day and pick insects off the plants by hand and would pull up w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7B1-CB33-419E-B9C2-D78CD7A1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5CC-0944-4959-9140-82082CBF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478-31EC-4F64-8663-BB1F16F6C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E19-A873-4E42-A2F3-F7F3DEC1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974-0852-412E-BAFA-91F0D31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CE8-6F1A-48A6-BDD0-B333C64B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A01-50ED-41A2-895D-7BA5D652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C77-8F0C-4261-82E5-D27C04DF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C4B-5467-47C7-B03B-C0EAE9E7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355-115A-4365-A83A-FE2792C1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3F6-A53D-4646-B820-C62CEC9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5032-8583-4063-87DD-D2AAFF80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45B2-7BED-475B-82E5-C747A3B39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Pueblos are a group of different tribes who are all much alike, so much alike we group them together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">
            <a:hlinkClick r:id="" action="ppaction://hlinkshowjump?jump=nextslide"/>
          </p:cNvPr>
          <p:cNvSpPr/>
          <p:nvPr/>
        </p:nvSpPr>
        <p:spPr>
          <a:xfrm>
            <a:off x="769608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C:\Program Files\Microsoft Office\Clipart\standard\stddir4\PH01346J.jpg"/>
          <p:cNvPicPr/>
          <p:nvPr/>
        </p:nvPicPr>
        <p:blipFill>
          <a:blip r:embed="rId1"/>
          <a:stretch/>
        </p:blipFill>
        <p:spPr>
          <a:xfrm>
            <a:off x="4191120" y="2743200"/>
            <a:ext cx="4495680" cy="29973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ueblo Indians, including the Tigua, are farmers. Most of their food comes from crops they plant and tend. Corn is the main crop they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C:\Program Files\Microsoft Office\Clipart\standard\stddir1\BD06981_.WMF"/>
          <p:cNvPicPr/>
          <p:nvPr/>
        </p:nvPicPr>
        <p:blipFill>
          <a:blip r:embed="rId1"/>
          <a:stretch/>
        </p:blipFill>
        <p:spPr>
          <a:xfrm>
            <a:off x="685800" y="2206800"/>
            <a:ext cx="3809880" cy="3663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6">
            <a:hlinkClick r:id="" action="ppaction://hlinkshowjump?jump=nex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raised cotton that they used to make cloth. They also raised gourds that could be dried out and used as contai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C:\Program Files\Microsoft Office\Clipart\standard\stddir4\PH01276J.jpg"/>
          <p:cNvPicPr/>
          <p:nvPr/>
        </p:nvPicPr>
        <p:blipFill>
          <a:blip r:embed="rId1"/>
          <a:stretch/>
        </p:blipFill>
        <p:spPr>
          <a:xfrm>
            <a:off x="4038480" y="1981080"/>
            <a:ext cx="4800600" cy="37404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76201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eblo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hunted deer, rabbits, antelope, bear and any other wild game they could find for me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and children would collect wild foods like berries when they were in seas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:\Program Files\Microsoft Office\Clipart\standard\stddir1\BD06271_.WMF"/>
          <p:cNvPicPr/>
          <p:nvPr/>
        </p:nvPicPr>
        <p:blipFill>
          <a:blip r:embed="rId1"/>
          <a:stretch/>
        </p:blipFill>
        <p:spPr>
          <a:xfrm>
            <a:off x="380880" y="2819520"/>
            <a:ext cx="4191120" cy="218412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ch Jumano Village had its own leader and its own gover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vernment is a system for running a town o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C:\Program Files\Microsoft Office\Clipart\standard\stddir2\BS01157_.wmf"/>
          <p:cNvPicPr/>
          <p:nvPr/>
        </p:nvPicPr>
        <p:blipFill>
          <a:blip r:embed="rId1"/>
          <a:stretch/>
        </p:blipFill>
        <p:spPr>
          <a:xfrm>
            <a:off x="4648320" y="1989000"/>
            <a:ext cx="3809880" cy="409896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ueblo hunters used bows and arrow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n war, Pueblo men fired their bows or fought with spears and war clu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>
            <a:hlinkClick r:id="" action="ppaction://hlinkshowjump?jump=nextslide"/>
          </p:cNvPr>
          <p:cNvSpPr/>
          <p:nvPr/>
        </p:nvSpPr>
        <p:spPr>
          <a:xfrm>
            <a:off x="8153280" y="5943600"/>
            <a:ext cx="990720" cy="914400"/>
          </a:xfrm>
          <a:custGeom>
            <a:avLst/>
            <a:gdLst>
              <a:gd name="textAreaLeft" fmla="*/ 59040 w 990720"/>
              <a:gd name="textAreaRight" fmla="*/ 931680 w 9907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3402" h="21600">
                <a:moveTo>
                  <a:pt x="0" y="0"/>
                </a:moveTo>
                <a:lnTo>
                  <a:pt x="23402" y="0"/>
                </a:lnTo>
                <a:lnTo>
                  <a:pt x="23402" y="21600"/>
                </a:lnTo>
                <a:lnTo>
                  <a:pt x="0" y="21600"/>
                </a:lnTo>
                <a:close/>
              </a:path>
              <a:path fill="lightenLess" w="23402" h="21600">
                <a:moveTo>
                  <a:pt x="0" y="0"/>
                </a:moveTo>
                <a:lnTo>
                  <a:pt x="23402" y="0"/>
                </a:lnTo>
                <a:lnTo>
                  <a:pt x="22002" y="1400"/>
                </a:lnTo>
                <a:lnTo>
                  <a:pt x="1400" y="1400"/>
                </a:lnTo>
                <a:close/>
              </a:path>
              <a:path fill="darken" w="23402" h="21600">
                <a:moveTo>
                  <a:pt x="23402" y="0"/>
                </a:moveTo>
                <a:lnTo>
                  <a:pt x="23402" y="21600"/>
                </a:lnTo>
                <a:lnTo>
                  <a:pt x="22002" y="20200"/>
                </a:lnTo>
                <a:lnTo>
                  <a:pt x="22002" y="1400"/>
                </a:lnTo>
                <a:close/>
              </a:path>
              <a:path fill="darkenLess" w="23402" h="21600">
                <a:moveTo>
                  <a:pt x="23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2" y="20200"/>
                </a:lnTo>
                <a:close/>
              </a:path>
              <a:path fill="lighten" w="23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02" h="21600">
                <a:moveTo>
                  <a:pt x="4695" y="3794"/>
                </a:moveTo>
                <a:lnTo>
                  <a:pt x="18708" y="10800"/>
                </a:lnTo>
                <a:lnTo>
                  <a:pt x="46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Pueblo Locations of J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1" descr="C:\Documents and Settings\MBHILL\My Documents\My Pictures\map jumanos.jpg"/>
          <p:cNvPicPr/>
          <p:nvPr/>
        </p:nvPicPr>
        <p:blipFill>
          <a:blip r:embed="rId1"/>
          <a:stretch/>
        </p:blipFill>
        <p:spPr>
          <a:xfrm>
            <a:off x="457200" y="914400"/>
            <a:ext cx="7620120" cy="5218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D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important religious ceremonies that had to be done at each stage of the farming seas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re were dances and ceremonies while the crops were growing to bring rain and protect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biggest dances and ceremonies came with the harvest of the crops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ith the Spanish, came diseases and epidemics that killed many of the Pueblo Indian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thers were killed fighting off the Spanish inva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Plains Jumano were pushed south and west out of their territory by the Apach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5">
            <a:hlinkClick r:id="" action="ppaction://hlinkshowjump?jump=nextslide"/>
          </p:cNvPr>
          <p:cNvSpPr/>
          <p:nvPr/>
        </p:nvSpPr>
        <p:spPr>
          <a:xfrm>
            <a:off x="777240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their build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s on their jo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what they ate (fo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1 fact on their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2 facts on why they dan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ueblo Trib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igu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Juman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">
            <a:hlinkClick r:id="" action="ppaction://hlinkshowjump?jump=nextslide"/>
          </p:cNvPr>
          <p:cNvSpPr/>
          <p:nvPr/>
        </p:nvSpPr>
        <p:spPr>
          <a:xfrm>
            <a:off x="784872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ir name, Pueblo, is Spanish and means "town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 larger Pueblos there are several individual Pueblo buildings built around a plaza or squ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">
            <a:hlinkClick r:id="" action="ppaction://hlinkshowjump?jump=nextslide"/>
          </p:cNvPr>
          <p:cNvSpPr/>
          <p:nvPr/>
        </p:nvSpPr>
        <p:spPr>
          <a:xfrm>
            <a:off x="78487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C:\Documents and Settings\MBHILL\My Documents\My Pictures\pueblo snow.jpg"/>
          <p:cNvPicPr/>
          <p:nvPr/>
        </p:nvPicPr>
        <p:blipFill>
          <a:blip r:embed="rId1"/>
          <a:stretch/>
        </p:blipFill>
        <p:spPr>
          <a:xfrm>
            <a:off x="1371600" y="1600200"/>
            <a:ext cx="5130720" cy="2260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274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y Pueblos had hundreds of people living in them. Some Pueblos were 4 or 5 stories high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C:\Documents and Settings\MBHILL\My Documents\My Pictures\pueblo1.jpg"/>
          <p:cNvPicPr/>
          <p:nvPr/>
        </p:nvPicPr>
        <p:blipFill>
          <a:blip r:embed="rId1"/>
          <a:stretch/>
        </p:blipFill>
        <p:spPr>
          <a:xfrm>
            <a:off x="3048120" y="1676520"/>
            <a:ext cx="5715000" cy="39621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7">
            <a:hlinkClick r:id="" action="ppaction://hlinkshowjump?jump=nextslide"/>
          </p:cNvPr>
          <p:cNvSpPr/>
          <p:nvPr/>
        </p:nvSpPr>
        <p:spPr>
          <a:xfrm>
            <a:off x="78487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eblos are built several ways. One way is to use rocks to build a wall and cover the rocks with a plaster of mud on the out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obe is a type of brick made from straw and m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">
            <a:hlinkClick r:id="" action="ppaction://hlinkshowjump?jump=nex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" descr="C:\Documents and Settings\MBHILL\My Documents\My Pictures\pueblo brick.jpg"/>
          <p:cNvPicPr/>
          <p:nvPr/>
        </p:nvPicPr>
        <p:blipFill>
          <a:blip r:embed="rId1"/>
          <a:stretch/>
        </p:blipFill>
        <p:spPr>
          <a:xfrm>
            <a:off x="4648320" y="2109960"/>
            <a:ext cx="4038480" cy="31255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Buil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rn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kind of oven used by Pueblo Indians to cook bread and tortillas i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y used their roof like a por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C:\Documents and Settings\MBHILL\My Documents\My Pictures\pueblo oven.jpg"/>
          <p:cNvPicPr/>
          <p:nvPr/>
        </p:nvPicPr>
        <p:blipFill>
          <a:blip r:embed="rId1"/>
          <a:stretch/>
        </p:blipFill>
        <p:spPr>
          <a:xfrm>
            <a:off x="4038480" y="1752480"/>
            <a:ext cx="4724640" cy="37213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>
            <a:hlinkClick r:id="" action="ppaction://hlinkshowjump?jump=nextslide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y stored and cooked their food in well-made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Tigua and other Pueblos are famous for their beautiful pott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C:\Program Files\Microsoft Office\Clipart\standard\stddir2\BD08820_.WMF"/>
          <p:cNvPicPr/>
          <p:nvPr/>
        </p:nvPicPr>
        <p:blipFill>
          <a:blip r:embed="rId1"/>
          <a:stretch/>
        </p:blipFill>
        <p:spPr>
          <a:xfrm>
            <a:off x="4572000" y="1752480"/>
            <a:ext cx="327492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ar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dry land made it hard to far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Jumano irrigated their crops from nearby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traded with other groups for things they could not grow or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y would travel long distances to tra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C:\Program Files\Microsoft Office\Clipart\photohm\j0145190.jpg"/>
          <p:cNvPicPr/>
          <p:nvPr/>
        </p:nvPicPr>
        <p:blipFill>
          <a:blip r:embed="rId1"/>
          <a:stretch/>
        </p:blipFill>
        <p:spPr>
          <a:xfrm>
            <a:off x="4495680" y="1981080"/>
            <a:ext cx="4267440" cy="40388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8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eblo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men cleared the fields and prepared the so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women did most of the farming. They used sharp sticks to poke holes in the dirt and put seeds in each 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hildren would walk the fields every day and pick insects off the plants by hand and would pull up w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Documents and Settings\MBHILL\My Documents\My Pictures\pueblo people.jpg"/>
          <p:cNvPicPr/>
          <p:nvPr/>
        </p:nvPicPr>
        <p:blipFill>
          <a:blip r:embed="rId1"/>
          <a:stretch/>
        </p:blipFill>
        <p:spPr>
          <a:xfrm>
            <a:off x="4648320" y="2330280"/>
            <a:ext cx="4495680" cy="33847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15:22:15Z</dcterms:created>
  <dc:creator>BISD</dc:creator>
  <dc:description/>
  <dc:language>en-US</dc:language>
  <cp:lastModifiedBy>Legion</cp:lastModifiedBy>
  <dcterms:modified xsi:type="dcterms:W3CDTF">2017-07-05T12:43:19Z</dcterms:modified>
  <cp:revision>11</cp:revision>
  <dc:subject/>
  <dc:title>Pueblo Native Americans</dc:title>
</cp:coreProperties>
</file>